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52D2-5190-4DF0-B180-EC56AB4E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B9E1-C08F-4E9A-A768-01FCEC12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AE54-9BBF-487B-B5D7-002F2C22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2903-5D7D-42E9-A61B-E801B399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93C9-032E-42FD-8D71-6F0C499E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F950-66F2-4D4C-BF1E-4B88B3AE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DF0A-1F1A-4909-9C8B-94BFDD1B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A762-598B-4D3E-BA3B-E658060D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7DD2-D090-437F-A242-574E2511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09C2-F572-422A-AEB4-9FA41380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9C68-419A-431C-AA35-849A8571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E494-2CC0-4FD0-A1A8-EADE109B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091C-81FA-4911-B26B-E2EFEC779F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Aufgabe 1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Zeige, dass die Ebenen E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nd E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zueinander parallel sind;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rechne ihren Absta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009800" y="985680"/>
                <a:ext cx="270648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1</m:t>
                    </m:r>
                    <m:r>
                      <m:t xml:space="preserve">: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  <m:r>
                      <m:t xml:space="preserve">∘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743360" y="985680"/>
                <a:ext cx="306864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2</m:t>
                    </m:r>
                    <m:r>
                      <m:t xml:space="preserve">: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  <m:r>
                      <m:t xml:space="preserve">∘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0" y="2819520"/>
            <a:ext cx="8458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: 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: -2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+ 2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– 2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+ 22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3505320"/>
            <a:ext cx="34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Q ( 0 / 0 / 0 )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057400" y="35053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683240" y="3540240"/>
                <a:ext cx="99684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E</m:t>
                    </m:r>
                    <m:r>
                      <m:t xml:space="preserve">2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324480" y="3733920"/>
                <a:ext cx="1295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E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57200" y="5029200"/>
                <a:ext cx="28670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HNF2</m:t>
                    </m:r>
                    <m:r>
                      <m:rPr>
                        <m:lit/>
                        <m:nor/>
                      </m:rPr>
                      <m:t xml:space="preserve"> : 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-2x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2x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– 2x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22</m:t>
                        </m:r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3733920" y="5029200"/>
            <a:ext cx="419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 in E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HNF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943600" y="4952880"/>
                <a:ext cx="5605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152280" y="586728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Abstand der beiden parallelen Ebenen beträgt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(~6,35 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910040" y="5799240"/>
                <a:ext cx="6476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579132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6400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Neutert Jan-Peter, K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Aufgabe 1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Zeige, dass die Ebenen E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nd E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zueinander parallel sind;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rechne ihren Absta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2193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Alternativlösung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81040" y="1795320"/>
                <a:ext cx="12463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E</m:t>
                    </m:r>
                    <m:r>
                      <m:t xml:space="preserve">1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2438280" y="2057400"/>
            <a:ext cx="3048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 (2 / 3 / 1)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809880" y="2057400"/>
                <a:ext cx="4399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581800" y="1665360"/>
                <a:ext cx="225108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: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33520" y="3276720"/>
                <a:ext cx="8380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×</m:t>
                    </m:r>
                    <m:r>
                      <m:t xml:space="preserve">E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076480" y="2808360"/>
                <a:ext cx="40971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400800" y="3124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772400" y="3048120"/>
                <a:ext cx="3589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457200" y="42670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 in g eingesetz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4191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809880" y="4114800"/>
                <a:ext cx="4082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495680" y="4038480"/>
                <a:ext cx="534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486400" y="4038480"/>
                <a:ext cx="428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92200" y="5091120"/>
                <a:ext cx="245088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7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809880" y="5334120"/>
                <a:ext cx="24829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∗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7391520" y="6400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Neutert Jan-Peter, K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33440" y="1201680"/>
                <a:ext cx="134136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2057400" y="1676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693880" y="1125360"/>
                <a:ext cx="24670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073920" y="1165320"/>
                <a:ext cx="198432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  <m:r>
                                <m:t xml:space="preserve">q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r>
                                <m:t xml:space="preserve">q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  <m:r>
                                <m:t xml:space="preserve">q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Aufgabe 5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Berechne den Flächeninhalt des Dreiecks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 (1 , 1 , 1); B (7 , 4 , 7); C (5 , 6 , -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04920" y="2743200"/>
                <a:ext cx="21175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X</m:t>
                    </m:r>
                    <m:r>
                      <m:t xml:space="preserve">∘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2666880" y="2895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457440" y="2382840"/>
                <a:ext cx="23036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  <m:r>
                                <m:t xml:space="preserve">q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r>
                                <m:t xml:space="preserve">q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  <m:r>
                                <m:t xml:space="preserve">q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∘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248520" y="2590920"/>
                <a:ext cx="1179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80880" y="3962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q in g eingesetz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257560" y="3692520"/>
                <a:ext cx="102852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35812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262400" y="3639960"/>
                <a:ext cx="160992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04920" y="4952880"/>
                <a:ext cx="37242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l</m:t>
                    </m:r>
                    <m:r>
                      <m:t xml:space="preserve">: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Dreieck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487692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486400" y="4952880"/>
                <a:ext cx="31878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Dreieck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533520" y="6019920"/>
            <a:ext cx="822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Flächeninhalt des Dreieck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beträgt 27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91520" y="6400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Neutert Jan-Peter, K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Aufgabe 6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Gegeben sind die Geraden g und h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) Zeige, dass g und h windschief sind und bestimme den Abstand dieser Gera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33520" y="1143000"/>
                <a:ext cx="20192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09480" y="2438280"/>
                <a:ext cx="19432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 flipV="1">
            <a:off x="2743200" y="22856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66880" y="16765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190512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 X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 windschief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943600" y="2133720"/>
                <a:ext cx="2438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…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windschief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304920" y="30481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fspannen einer Hilfsebene mit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781680" y="3124080"/>
                <a:ext cx="8384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∈</m:t>
                    </m:r>
                    <m:r>
                      <m:t xml:space="preserve">∩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57040" y="3733920"/>
                <a:ext cx="27241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E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3352680" y="37339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 K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429000" y="4191120"/>
                <a:ext cx="213372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7200" y="5029200"/>
                <a:ext cx="24559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HNF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248520" y="3657600"/>
                <a:ext cx="226836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E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n</m:t>
                        </m:r>
                        <m:r>
                          <m:t xml:space="preserve">E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3200400" y="533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5105520"/>
            <a:ext cx="2209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Q in E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HNF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ingesetz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324480" y="4952880"/>
                <a:ext cx="146376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</m:m>
                        <m:r>
                          <m:t xml:space="preserve">,</m:t>
                        </m:r>
                        <m:r>
                          <m:t xml:space="preserve">E</m:t>
                        </m:r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457200" y="6172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Abstand dieser Geraden beträgt 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91520" y="6400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Neutert Jan-Peter, K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Aufgabe 6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Gegeben sind die Geraden g und h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) Bestimme die Fußpunkte K und Q auf h des gemeinsamen Lotes von g und 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33520" y="1143000"/>
                <a:ext cx="20192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09480" y="2438280"/>
                <a:ext cx="19432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200400" y="1219320"/>
                <a:ext cx="167652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g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124080" y="2438280"/>
                <a:ext cx="190512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h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  <m:r>
                                <m:t xml:space="preserve">−</m:t>
                              </m:r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5105520" y="1600200"/>
            <a:ext cx="609480" cy="1447920"/>
          </a:xfrm>
          <a:custGeom>
            <a:avLst/>
            <a:gdLst>
              <a:gd name="textAreaLeft" fmla="*/ 0 w 609480"/>
              <a:gd name="textAreaRight" fmla="*/ 219960 w 6094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019920" y="1828800"/>
                <a:ext cx="2133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g</m:t>
                    </m:r>
                    <m:r>
                      <m:t xml:space="preserve">X</m:t>
                    </m:r>
                    <m:r>
                      <m:t xml:space="preserve">h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q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  <m:r>
                                <m:t xml:space="preserve">−</m:t>
                              </m:r>
                              <m:r>
                                <m:t xml:space="preserve">q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95160" y="3809880"/>
                <a:ext cx="15908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g</m:t>
                    </m:r>
                    <m:r>
                      <m:t xml:space="preserve">X</m:t>
                    </m:r>
                    <m:r>
                      <m:t xml:space="preserve">h</m:t>
                    </m:r>
                    <m:r>
                      <m:t xml:space="preserve">∘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590920" y="3809880"/>
                <a:ext cx="1530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g</m:t>
                    </m:r>
                    <m:r>
                      <m:t xml:space="preserve">X</m:t>
                    </m:r>
                    <m:r>
                      <m:t xml:space="preserve">h</m:t>
                    </m:r>
                    <m:r>
                      <m:t xml:space="preserve">∘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14479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7200" y="5638680"/>
                <a:ext cx="16304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595600" y="5638680"/>
                <a:ext cx="14684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114800" y="4724280"/>
                <a:ext cx="98568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m>
                      <m:mr>
                        <m:e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mr>
                      <m:mr>
                        <m:e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4876920" y="5638680"/>
            <a:ext cx="396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Lotfußpunkt auf g ist K ( 1 , 2 , -1 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Lotfußpunkt auf h ist Q ( 4 , 8 , -7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6400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Neutert Jan-Peter, K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Aufgabe 6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Gegeben sind die Geraden g und h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) Berechne mit dem Ergebnis die Länge von KQ. Vergleiche mit 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295280"/>
            <a:ext cx="396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K ( 1 , 2 , -1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Q ( 4 , 8 , -7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7200" y="2362320"/>
                <a:ext cx="12891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362320" y="2971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276720" y="2362320"/>
                <a:ext cx="41716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Q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²</m:t>
                        </m:r>
                        <m:r>
                          <m:t xml:space="preserve">+</m:t>
                        </m:r>
                        <m:r>
                          <m:t xml:space="preserve">6²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²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380880" y="3962520"/>
            <a:ext cx="8001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ergleich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rgebnis c) = Ergebnis 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 2mal 90° Winkel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änge KQ errechen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. durch die Entfernung der beiden Lotfußpunkte o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. durch Bildung einer Hilfsebene mit Stützvektor von g/h und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n beiden Richtungsvektoren der Gera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91520" y="6400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Neutert Jan-Peter, K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5:21:33Z</dcterms:created>
  <dc:creator>NEC Computers International</dc:creator>
  <dc:description/>
  <dc:language>en-US</dc:language>
  <cp:lastModifiedBy>NEC Computers International</cp:lastModifiedBy>
  <dcterms:modified xsi:type="dcterms:W3CDTF">2009-10-21T12:13:35Z</dcterms:modified>
  <cp:revision>11</cp:revision>
  <dc:subject/>
  <dc:title> Aufgabe 1: Zeige, dass die Ebenen E1und E2 zueinander parallel sind;   berechne ihren Abstand:</dc:title>
</cp:coreProperties>
</file>